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316E-1FD6-4FB8-A599-21EFE957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8222-0C8C-4BCC-ABD4-0E684E87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A545-E80C-4C5A-A200-C77636AC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B718-FA31-492E-A9AB-D74EFD47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9AF5-70C1-426C-BB65-F2E7C2B6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B8CD-9D4F-4D9E-BBAD-C33EFAA3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F1BB-B6F6-479E-BF70-C0DC1946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E913-8E54-4866-A906-38C2063B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86F0-22AF-4DD8-9FC0-46E693AE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70E2-1A04-4E26-A4EB-562AE60C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DE03-655C-48CA-9E2D-70BE0D1D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F80F-B5E8-4B7A-BAB0-15D07F44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7C11-2D36-4AAF-A7EE-CA0A0483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FDAB-09AD-4C9C-89C0-66B9F03A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30BD-B311-4C76-BCFB-40CD46BF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E0CD-9DBB-487F-8A2F-0FEC0552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4E2E-3CB1-4EEF-8BC5-91C93563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3D14-49DB-4C97-88E9-2B7FFBB2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901F-0B4C-4B65-A4AB-1F0DCAAF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7363-B138-4953-98EA-2CBE7832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E955-C1EE-4D53-9DA2-0CDF5E8A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FD1B-D3E6-4D84-B900-5D820815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2134-EAFF-4313-BDE3-03882C65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7855-C973-4265-88DF-3F6242F2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D746-81B4-4B7E-AF0E-80E6F0C62D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4D7C-9CDF-4419-85A4-97992644BF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6600"/>
                </a:solidFill>
                <a:uFillTx/>
                <a:latin typeface="Comic Sans MS"/>
              </a:rPr>
              <a:t>Dal y bws</a:t>
            </a:r>
            <a:endParaRPr b="1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50920" y="836640"/>
            <a:ext cx="67816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 Alan, Bobbi a Ceri yn aros am y b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allent ddewis rhwng bws coch neu fely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260000" y="333360"/>
            <a:ext cx="2305080" cy="1827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0260000" y="4437000"/>
            <a:ext cx="2449440" cy="2116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216680" y="4867200"/>
            <a:ext cx="377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 blentyn sy’n teithio 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r un bws pob tr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th yw lliw y bw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773360"/>
            <a:ext cx="67816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Os yw Alan yn mynd ar y bws </a:t>
            </a:r>
            <a:r>
              <a:rPr b="0" lang="en-GB" sz="2400" spc="-1" strike="noStrike">
                <a:solidFill>
                  <a:srgbClr val="f8e748"/>
                </a:solidFill>
                <a:latin typeface="Comic Sans MS"/>
              </a:rPr>
              <a:t>MELYN</a:t>
            </a:r>
            <a:r>
              <a:rPr b="0" lang="en-GB" sz="2400" spc="-1" strike="noStrike">
                <a:solidFill>
                  <a:srgbClr val="009900"/>
                </a:solidFill>
                <a:latin typeface="Comic Sans MS"/>
              </a:rPr>
              <a:t>, bydd Bobbi a Ceri yn teithio ar yr un bws a’i gilyd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2708280"/>
            <a:ext cx="7200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d48f8"/>
                </a:solidFill>
                <a:latin typeface="Comic Sans MS"/>
              </a:rPr>
              <a:t>Os yw Bobbi yn mynd ar y bws </a:t>
            </a:r>
            <a:r>
              <a:rPr b="0" lang="en-GB" sz="2400" spc="-1" strike="noStrike">
                <a:solidFill>
                  <a:srgbClr val="f8e748"/>
                </a:solidFill>
                <a:latin typeface="Comic Sans MS"/>
              </a:rPr>
              <a:t>MELYN</a:t>
            </a:r>
            <a:r>
              <a:rPr b="0" lang="en-GB" sz="2400" spc="-1" strike="noStrike">
                <a:solidFill>
                  <a:srgbClr val="5d48f8"/>
                </a:solidFill>
                <a:latin typeface="Comic Sans MS"/>
              </a:rPr>
              <a:t>, bydd Alan a Ceri yn teithio ar fws gwahanol i’w gilyd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716280"/>
            <a:ext cx="6912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Os yw Ceri yn mynd ar y bws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CH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, bydd Alan yn teithio ar yr un bws a Bobb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37164E-006 L -0.39375 0.00325 E">
                                      <p:cBhvr>
                                        <p:cTn id="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43003E-006 L -1.07083 0.00347 E">
                                      <p:cBhvr>
                                        <p:cTn id="10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1T18:31:16Z</dcterms:created>
  <dc:creator>Carwyn</dc:creator>
  <dc:description/>
  <dc:language>en-US</dc:language>
  <cp:lastModifiedBy>Carwyn</cp:lastModifiedBy>
  <dcterms:modified xsi:type="dcterms:W3CDTF">2009-04-17T16:47:17Z</dcterms:modified>
  <cp:revision>4</cp:revision>
  <dc:subject/>
  <dc:title>Dal y bws</dc:title>
</cp:coreProperties>
</file>